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E259-70E6-4DC4-A066-72EE989F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A842-0CB1-4D6B-972B-C2F908E1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E50A-EE9D-470D-9CD3-DF35865C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73FD-346E-4845-BCA8-00696946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CC4D-FEFB-4251-874E-F1749B70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1FEF-E1F6-4EF9-A9B1-ED8BEC64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20BC-3A59-46BC-A728-0C7C4C12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AE81-27CC-4B1B-A35C-D4AC5D9C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48AB-3008-42F3-B94B-CE2C8F20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C2A1-18DE-496E-AAAE-2912E74E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2045-12AC-45E3-9D98-8B984A87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079B-CDBF-4217-9494-A5D253BE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FEBF-C301-4BF1-9E03-3F538AFE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C0FE-8C5A-46BA-884F-3555582C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A2AC-A877-45DE-8081-57F4E849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5C31-E388-4688-8FAD-0C3F4567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AC0E-CEC8-47A9-8A0F-E656CCE8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0FBD-2C14-4879-9550-B844342F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E693-B575-479A-9C53-7D80976B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DCAF-C9DF-4131-857C-21456069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2280-625F-4AF4-9AA4-92D4B9BA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5316-169C-4617-8C95-A4C7CE91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773B-12A1-489C-BBE0-B136254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9C54-A6D3-460F-B573-1BF232B2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FFE5-5C67-4FCE-9D71-9919C1766A9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4DCC-FA41-423C-A300-BA7A17BE582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472680"/>
            <a:ext cx="111315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2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е драгоцен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еб копнея аз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грях окован, аз пъшка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ъма и леден мраз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уждая се от онз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церителен поток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Твойта кръв свеще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мива всек порок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е драгоцен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еб копнея аз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каян скитник вика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помощ в този ч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уждая се в съмнени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воята любов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ми оправя път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ен да е покр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0772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е драгоцен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еб копнея аз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, живей в сърце м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ъм блажен тогаз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после в вечна слав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ияйни висо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 ми ще възпя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личието 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9-30T16:02:11Z</dcterms:modified>
  <cp:revision>38</cp:revision>
  <dc:subject/>
  <dc:title>Slide 1</dc:title>
</cp:coreProperties>
</file>